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C0DF-B61C-4043-AB4F-5429AA5D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4920" y="40248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849-F1EC-42F0-A350-52DA01A4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784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5B80-1378-4671-8DEA-4195DB22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9068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608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492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9068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608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0F3-B513-414D-A632-D2B6E8D6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E7E6-FB38-410A-BD4D-A7DBF860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9479-C61C-4D01-A2C1-9E601311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6D70-591A-4FAF-A8B7-724AB291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2B32-D915-444E-8E7C-43E12A79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8238-82F5-412C-9C6E-1A1D5FDD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5341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867A-5E0C-4D62-909B-7EE01C2B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18D3-BF0A-444B-8E8C-3D44FB58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D8C3-1E9C-4351-9686-665633EC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784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BE37-C590-408D-9A8B-879A8ECA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89CA-46CD-4B71-A45B-9580FED1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40248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197F-9CC5-47EC-A8A2-BE941F05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784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33BC-B8FC-467B-91C3-43716EFD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9068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7608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9068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7608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1248-2921-48EA-A474-A4C9EA63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1A46-A2D3-414D-B998-DF995589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7C1-8E2A-484F-B0D1-8E44168B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5C13-F059-477F-8EBD-61BCC531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5341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AA8-0C14-4C1D-8837-754BA319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6526-9AE8-495D-BA0A-8614CF40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784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8AB7-A205-47BE-A5C7-145ABEB4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2A90-97FB-4688-8E47-B59F5BD8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3821040" cy="433548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633d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1644480" cy="166068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50420"/>
              </a:gs>
              <a:gs pos="50000">
                <a:srgbClr val="0d0a46"/>
              </a:gs>
              <a:gs pos="100000">
                <a:srgbClr val="05042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3c292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3c2924"/>
              </a:gs>
              <a:gs pos="100000">
                <a:srgbClr val="0d0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d0a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3c292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3c2924"/>
              </a:gs>
              <a:gs pos="100000">
                <a:srgbClr val="0d0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633d4e"/>
              </a:gs>
              <a:gs pos="100000">
                <a:srgbClr val="0d0a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Click to edit the title text format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Cornerston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Cornerston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Cornerston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Cornerston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Cornerston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8DF6-9B07-4726-8BED-B4A028CC7415}" type="slidenum">
              <a:rPr b="0" lang="en-US" sz="1400" spc="-1" strike="noStrike">
                <a:solidFill>
                  <a:srgbClr val="ebd189"/>
                </a:solidFill>
                <a:latin typeface="Cornerston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633d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3c292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3c2924"/>
              </a:gs>
              <a:gs pos="100000">
                <a:srgbClr val="0d0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d0a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3c292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3c2924"/>
              </a:gs>
              <a:gs pos="100000">
                <a:srgbClr val="0d0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633d4e"/>
              </a:gs>
              <a:gs pos="100000">
                <a:srgbClr val="0d0a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633d4e"/>
              </a:gs>
              <a:gs pos="100000">
                <a:srgbClr val="0d0a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bd189"/>
                </a:solidFill>
                <a:latin typeface="Cornerstone"/>
              </a:rPr>
              <a:t>Click to edit the title text format</a:t>
            </a:r>
            <a:endParaRPr b="0" lang="en-US" sz="6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3F79-B690-4AD2-A676-D6836053C813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rnerstone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Cornerstone"/>
            </a:endParaRPr>
          </a:p>
          <a:p>
            <a:pPr lvl="4" marL="1828800" algn="ctr">
              <a:spcBef>
                <a:spcPts val="499"/>
              </a:spcBef>
              <a:buClr>
                <a:srgbClr val="633d4e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rnerstone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Cornerstone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rnerstone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Cornerstone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rnerstone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bd189"/>
                </a:solidFill>
                <a:latin typeface="Cornerstone"/>
              </a:rPr>
              <a:t>Smith v. Marx</a:t>
            </a:r>
            <a:br>
              <a:rPr sz="6000"/>
            </a:br>
            <a:r>
              <a:rPr b="0" lang="en-US" sz="6000" spc="-1" strike="noStrike">
                <a:solidFill>
                  <a:srgbClr val="ebd189"/>
                </a:solidFill>
                <a:latin typeface="Cornerstone"/>
              </a:rPr>
              <a:t>or</a:t>
            </a:r>
            <a:br>
              <a:rPr sz="6000"/>
            </a:br>
            <a:r>
              <a:rPr b="0" lang="en-US" sz="6000" spc="-1" strike="noStrike">
                <a:solidFill>
                  <a:srgbClr val="ebd189"/>
                </a:solidFill>
                <a:latin typeface="Cornerstone"/>
              </a:rPr>
              <a:t>Capitalism v. Socialism</a:t>
            </a:r>
            <a:endParaRPr b="0" lang="en-US" sz="6000" spc="-1" strike="noStrike">
              <a:solidFill>
                <a:srgbClr val="ebd189"/>
              </a:solidFill>
              <a:latin typeface="Cornerstone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Louis Blanc &amp; National Workshops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French socialist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Believed every person had the right to a </a:t>
            </a:r>
            <a:r>
              <a:rPr b="0" lang="en-US" sz="3200" spc="-1" strike="noStrike" u="sng">
                <a:solidFill>
                  <a:srgbClr val="fcab40"/>
                </a:solidFill>
                <a:uFillTx/>
                <a:latin typeface="Cornerstone"/>
              </a:rPr>
              <a:t>JOB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ab40"/>
                </a:solidFill>
                <a:latin typeface="Cornerstone"/>
              </a:rPr>
              <a:t>Govt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should provide work for the unemployed in govt financed factories (national workshops)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Considered more practical that Utopians b/c he looked to </a:t>
            </a:r>
            <a:r>
              <a:rPr b="0" lang="en-US" sz="3200" spc="-1" strike="noStrike">
                <a:solidFill>
                  <a:srgbClr val="fcab40"/>
                </a:solidFill>
                <a:latin typeface="Cornerstone"/>
              </a:rPr>
              <a:t>reform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, not to capitalists but to workers &amp; govt (infl. US policy during Great Depression)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Karl Marx &amp; Scientific Socialism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1818-1883, “father of communism”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Lived in poverty &amp; witnessed the suffering of English Industrial workers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Wrote: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ab40"/>
                </a:solidFill>
                <a:latin typeface="Cornerstone"/>
              </a:rPr>
              <a:t>Communist Manifesto:</a:t>
            </a: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 pamphlet written w/Fredrich Engel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Used “communist” to distinguish himself from Utopian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ab40"/>
                </a:solidFill>
                <a:latin typeface="Cornerstone"/>
              </a:rPr>
              <a:t>Das Kapital:</a:t>
            </a: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 criticism of capitalism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Marxist Ideas &amp; Criticisms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419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MARXIST IDEA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b40"/>
                </a:solidFill>
                <a:latin typeface="Cornerstone"/>
              </a:rPr>
              <a:t>Economic</a:t>
            </a: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 interpretation of history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b40"/>
                </a:solidFill>
                <a:latin typeface="Cornerstone"/>
              </a:rPr>
              <a:t>Class Struggle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b40"/>
                </a:solidFill>
                <a:latin typeface="Cornerstone"/>
              </a:rPr>
              <a:t>Surplus Value:</a:t>
            </a: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 capitalists exploit poor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1" marL="690840" indent="-2656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Capitalism will destroy itself beginning in industrial countries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Ultimate society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1" marL="690840" indent="-2656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Classless w/no govt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19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SzPct val="10963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CRITICISMS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  <a:p>
            <a:pPr marL="325800" indent="-325800">
              <a:spcBef>
                <a:spcPts val="601"/>
              </a:spcBef>
              <a:buSzPct val="10963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Neglects </a:t>
            </a:r>
            <a:r>
              <a:rPr b="0" lang="en-US" sz="2400" spc="-1" strike="noStrike">
                <a:solidFill>
                  <a:srgbClr val="fcab40"/>
                </a:solidFill>
                <a:latin typeface="Cornerstone"/>
              </a:rPr>
              <a:t>non-econ factors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  <a:p>
            <a:pPr lvl="1" marL="705600" indent="-271440">
              <a:spcBef>
                <a:spcPts val="499"/>
              </a:spcBef>
              <a:buSzPct val="1007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rnerstone"/>
              </a:rPr>
              <a:t>Religion &amp; nationalism</a:t>
            </a:r>
            <a:endParaRPr b="0" lang="en-US" sz="2000" spc="-1" strike="noStrike">
              <a:solidFill>
                <a:srgbClr val="eaeaea"/>
              </a:solidFill>
              <a:latin typeface="Cornerstone"/>
            </a:endParaRPr>
          </a:p>
          <a:p>
            <a:pPr marL="325800" indent="-325800">
              <a:spcBef>
                <a:spcPts val="601"/>
              </a:spcBef>
              <a:buSzPct val="10963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Interests often coincide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  <a:p>
            <a:pPr marL="325800" indent="-325800">
              <a:spcBef>
                <a:spcPts val="601"/>
              </a:spcBef>
              <a:buSzPct val="10963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Capitalists </a:t>
            </a:r>
            <a:r>
              <a:rPr b="0" lang="en-US" sz="2400" spc="-1" strike="noStrike">
                <a:solidFill>
                  <a:srgbClr val="fcab40"/>
                </a:solidFill>
                <a:latin typeface="Cornerstone"/>
              </a:rPr>
              <a:t>entitled to profit</a:t>
            </a: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 b/c risks $$ &amp; managing business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  <a:p>
            <a:pPr marL="325800" indent="-325800">
              <a:spcBef>
                <a:spcPts val="601"/>
              </a:spcBef>
              <a:buSzPct val="10963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Capitalism works w/in </a:t>
            </a:r>
            <a:r>
              <a:rPr b="0" lang="en-US" sz="2400" spc="-1" strike="noStrike">
                <a:solidFill>
                  <a:srgbClr val="fcab40"/>
                </a:solidFill>
                <a:latin typeface="Cornerstone"/>
              </a:rPr>
              <a:t>democracies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  <a:p>
            <a:pPr lvl="1" marL="705600" indent="-271440">
              <a:spcBef>
                <a:spcPts val="499"/>
              </a:spcBef>
              <a:buSzPct val="1007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rnerstone"/>
              </a:rPr>
              <a:t>Responds to voters</a:t>
            </a:r>
            <a:endParaRPr b="0" lang="en-US" sz="2000" spc="-1" strike="noStrike">
              <a:solidFill>
                <a:srgbClr val="eaeaea"/>
              </a:solidFill>
              <a:latin typeface="Cornerstone"/>
            </a:endParaRPr>
          </a:p>
          <a:p>
            <a:pPr lvl="1" marL="705600" indent="-271440">
              <a:spcBef>
                <a:spcPts val="499"/>
              </a:spcBef>
              <a:buSzPct val="10076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rnerstone"/>
              </a:rPr>
              <a:t>Revolution comes to agricultural countries 1st</a:t>
            </a:r>
            <a:endParaRPr b="0" lang="en-US" sz="2000" spc="-1" strike="noStrike">
              <a:solidFill>
                <a:srgbClr val="eaeaea"/>
              </a:solidFill>
              <a:latin typeface="Cornerstone"/>
            </a:endParaRPr>
          </a:p>
          <a:p>
            <a:pPr marL="325800" indent="-325800">
              <a:spcBef>
                <a:spcPts val="601"/>
              </a:spcBef>
              <a:buSzPct val="109631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State becomes all powerful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Socialism vs. Communism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rnerstone"/>
              </a:rPr>
              <a:t>SOCIALISM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Achieved by evolution peaceful &amp; legal gaining of control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Democratic: pwr by consent of the governed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Nationalism of only MAJOR industrie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19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rnerstone"/>
              </a:rPr>
              <a:t>COMMUNISM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Achieved only by violent overthrow of govt &amp; economy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dictatorship of the proletariat” govt suppresses all counter revolutionary idea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Requires govt ownership of ALL means of production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Flaws of Communism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Individuals lose incentive to work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Govt becomes a dictatorship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Govt places needs of state over the individua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Govt central planning of economy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Govt must be in constant state of emergency to instigate production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Never achieves Marx’ s ultimate society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Flaws of Laissez-faire Capitalism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Abuse of labor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Abuse of consumer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Abuse of environment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Monopolies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Ultimately “welfare capitalism” or “democratic socialism” becomes necessary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038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Modern Capitalism - Emergence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Capital is needed to build factories, purchase machines &amp; raw materials &amp; pay labor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ab40"/>
                </a:solidFill>
                <a:latin typeface="Cornerstone"/>
              </a:rPr>
              <a:t>Capitalist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System because individuals invest in hope of a profit (future return)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Based on concepts of </a:t>
            </a:r>
            <a:r>
              <a:rPr b="0" lang="en-US" sz="3200" spc="-1" strike="noStrike">
                <a:solidFill>
                  <a:srgbClr val="fcab40"/>
                </a:solidFill>
                <a:latin typeface="Cornerstone"/>
              </a:rPr>
              <a:t>free enterprise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&amp; competition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Needs &amp; desires of </a:t>
            </a:r>
            <a:r>
              <a:rPr b="0" lang="en-US" sz="3200" spc="-1" strike="noStrike">
                <a:solidFill>
                  <a:srgbClr val="fcab40"/>
                </a:solidFill>
                <a:latin typeface="Cornerstone"/>
              </a:rPr>
              <a:t>consumers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met by quality goods at lowest prices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Adam Smith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Cornerstone"/>
              </a:rPr>
              <a:t>Wealth of Nations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Invisible Hand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People work for </a:t>
            </a:r>
            <a:r>
              <a:rPr b="0" lang="en-US" sz="2800" spc="-1" strike="noStrike">
                <a:solidFill>
                  <a:srgbClr val="fcab40"/>
                </a:solidFill>
                <a:latin typeface="Cornerstone"/>
              </a:rPr>
              <a:t>self interest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Society naturally benefit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Laissez-Faire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Government does not interfere with business - </a:t>
            </a:r>
            <a:r>
              <a:rPr b="0" lang="en-US" sz="2800" spc="-1" strike="noStrike">
                <a:solidFill>
                  <a:srgbClr val="fcab40"/>
                </a:solidFill>
                <a:latin typeface="Cornerstone"/>
              </a:rPr>
              <a:t>“hands off”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Basic Principles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Cornerstone"/>
              </a:rPr>
              <a:t>Private Ownership</a:t>
            </a:r>
            <a:r>
              <a:rPr b="0" lang="en-US" sz="3200" spc="-1" strike="noStrike">
                <a:solidFill>
                  <a:srgbClr val="99cc00"/>
                </a:solidFill>
                <a:latin typeface="Cornerstone"/>
              </a:rPr>
              <a:t>: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individ. Not govt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Cornerstone"/>
              </a:rPr>
              <a:t>Free Enterprise</a:t>
            </a:r>
            <a:r>
              <a:rPr b="0" lang="en-US" sz="3200" spc="-1" strike="noStrike">
                <a:solidFill>
                  <a:srgbClr val="99cc00"/>
                </a:solidFill>
                <a:latin typeface="Cornerstone"/>
              </a:rPr>
              <a:t>: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anyone can participate in business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Cornerstone"/>
              </a:rPr>
              <a:t>Profit Motive</a:t>
            </a:r>
            <a:r>
              <a:rPr b="0" lang="en-US" sz="3200" spc="-1" strike="noStrike">
                <a:solidFill>
                  <a:srgbClr val="99cc00"/>
                </a:solidFill>
                <a:latin typeface="Cornerstone"/>
              </a:rPr>
              <a:t>: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do it for $$$$$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Cornerstone"/>
              </a:rPr>
              <a:t>Competition</a:t>
            </a:r>
            <a:r>
              <a:rPr b="0" lang="en-US" sz="3200" spc="-1" strike="noStrike">
                <a:solidFill>
                  <a:srgbClr val="99cc00"/>
                </a:solidFill>
                <a:latin typeface="Cornerstone"/>
              </a:rPr>
              <a:t>: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lower prices, better quality, bigger choice, stimulates creativity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Cornerstone"/>
              </a:rPr>
              <a:t>Market Economy</a:t>
            </a:r>
            <a:r>
              <a:rPr b="0" lang="en-US" sz="3200" spc="-1" strike="noStrike">
                <a:solidFill>
                  <a:srgbClr val="99cc00"/>
                </a:solidFill>
                <a:latin typeface="Cornerstone"/>
              </a:rPr>
              <a:t>: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supply &amp; demand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New Forms of Business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Corporations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A business organization owned by a group of </a:t>
            </a:r>
            <a:r>
              <a:rPr b="0" lang="en-US" sz="3200" spc="-1" strike="noStrike">
                <a:solidFill>
                  <a:srgbClr val="fcab40"/>
                </a:solidFill>
                <a:latin typeface="Cornerstone"/>
              </a:rPr>
              <a:t>stockholders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, each of whom enjoys limited liability (that is, each can be held responsible for losses only up to the limit of his or her investment). A corporation has the ability to raise capital by selling stock to the public.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New Forms of Business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rnerstone"/>
              </a:rPr>
              <a:t>Consolidations</a:t>
            </a: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 - When corporations join together for large combination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ab40"/>
                </a:solidFill>
                <a:uFillTx/>
                <a:latin typeface="Cornerstone"/>
              </a:rPr>
              <a:t>Horizontal consolidation:</a:t>
            </a: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 total control of one vital step in the economic process (Rockefeller oil)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ab40"/>
                </a:solidFill>
                <a:uFillTx/>
                <a:latin typeface="Cornerstone"/>
              </a:rPr>
              <a:t>Vertical consolidation:</a:t>
            </a: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 partial control of each step in the economic process (Carnegie steel)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rnerstone"/>
              </a:rPr>
              <a:t>Monopoly</a:t>
            </a:r>
            <a:r>
              <a:rPr b="0" lang="en-US" sz="2800" spc="-1" strike="noStrike">
                <a:solidFill>
                  <a:srgbClr val="99cc00"/>
                </a:solidFill>
                <a:latin typeface="Cornerstone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 The absence of competition; one person/co. controls all of an industry, product or service &amp; can set the price - an abuse of capitalism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Labor Discontent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Cornerstone"/>
              </a:rPr>
              <a:t>LOW WAGES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Barely above starvation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Cornerstone"/>
              </a:rPr>
              <a:t>LONG HOURS 12-16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hours/day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Women &amp;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Cornerstone"/>
              </a:rPr>
              <a:t>Children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(from age 5 not uncommon)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Unsanitary &amp;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Cornerstone"/>
              </a:rPr>
              <a:t>UNSAFE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working conditions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Technological unemployment displaced workers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Socialism - A Movement to Displace Capitalism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rnerstone"/>
              </a:rPr>
              <a:t>CAPITALISM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Private individs own &amp; operate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Private owners provide ppl w/ goods &amp; service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Individ owners make decision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rnerstone"/>
              </a:rPr>
              <a:t>SOCIALISM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Govt representing ppl owns &amp; operate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Govt determines needs of ppl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State planning - govt plans economy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No free market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Utopian Socialists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Believed that capitalists, once convinced of merits, would </a:t>
            </a:r>
            <a:r>
              <a:rPr b="0" lang="en-US" sz="2800" spc="-1" strike="noStrike" u="sng">
                <a:solidFill>
                  <a:srgbClr val="fcab40"/>
                </a:solidFill>
                <a:uFillTx/>
                <a:latin typeface="Cornerstone"/>
              </a:rPr>
              <a:t>voluntarily</a:t>
            </a: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 discard private ownership &amp; profit motive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To many ppl the possibility that this would happen seemed unlikely, therefore these ppl were considered dreamers or </a:t>
            </a:r>
            <a:r>
              <a:rPr b="0" lang="en-US" sz="2800" spc="-1" strike="noStrike">
                <a:solidFill>
                  <a:srgbClr val="fcab40"/>
                </a:solidFill>
                <a:latin typeface="Cornerstone"/>
              </a:rPr>
              <a:t>UTOPIAN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Robert Owen, Claude St. Simon, &amp; Charles Fourier advocate the establishment of ideal communities, however, their experimental communities </a:t>
            </a:r>
            <a:r>
              <a:rPr b="0" lang="en-US" sz="2800" spc="-1" strike="noStrike">
                <a:solidFill>
                  <a:srgbClr val="fcab40"/>
                </a:solidFill>
                <a:latin typeface="Cornerstone"/>
              </a:rPr>
              <a:t>fail</a:t>
            </a: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 eventually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04:10:53Z</dcterms:created>
  <dc:creator>Susan Gregory</dc:creator>
  <dc:description/>
  <dc:language>en-US</dc:language>
  <cp:lastModifiedBy>Susan Gregory</cp:lastModifiedBy>
  <dcterms:modified xsi:type="dcterms:W3CDTF">2008-02-18T07:14:56Z</dcterms:modified>
  <cp:revision>71</cp:revision>
  <dc:subject/>
  <dc:title>Smith v. Marx or Capitalism v. Socialism</dc:title>
</cp:coreProperties>
</file>